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8FB4C-C22E-4586-9CA8-ECBD76D2AD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AR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Constellations of our Galaxy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nstellations of our Galax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stellation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changing at the same (annual) timescale that we are observing the changing zodiac?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o the constellations appear to change positions in the night sky as Earth travels around our Sun throughout the year? YE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re the constellations themselves moving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ell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changing at the same (annual) timescale that we are observing the changing zodiac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the constellations appear to change positions in the night sky as Earth travels around our Sun throughout the year? Y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the constellations themselves moving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Constellation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What is changing at the same (annual) timescale that we are observing the changing zodiac?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Do the constellations appear to change positions in the night sky as Earth travels around our Sun throughout the year? YE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Are the constellations themselves moving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stellation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changing at the same (annual) timescale that we are observing the changing zodiac?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o the constellations appear to change positions in the night sky as Earth travels around our Sun throughout the year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re the constellations themselves moving? NO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causes this apparent change in positions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ell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changing at the same (annual) timescale that we are observing the changing zodiac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the constellations appear to change positions in the night sky as Earth travels around our Sun throughout the year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the constellations themselves moving? 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auses this apparent change in position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Constellation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What is changing at the same (annual) timescale that we are observing the changing zodiac?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Do the constellations appear to change positions in the night sky as Earth travels around our Sun throughout the year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Are the constellations themselves moving? NO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What causes this apparent change in positions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stellation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changing at the same (annual) timescale that we are observing the changing zodiac?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o the constellations appear to change positions in the night sky as Earth travels around our Sun throughout the year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re the constellations themselves moving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causes this apparent change in positions? As Earth orbits the Sun, our perspective change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o all stars appear in different positions at different times of the year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ell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changing at the same (annual) timescale that we are observing the changing zodiac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the constellations appear to change positions in the night sky as Earth travels around our Sun throughout the year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the constellations themselves moving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auses this apparent change in positions? As Earth orbits the Sun, our perspective chan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all stars appear in different positions at different times of the year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Constellation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What is changing at the same (annual) timescale that we are observing the changing zodiac?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Do the constellations appear to change positions in the night sky as Earth travels around our Sun throughout the year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Are the constellations themselves moving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What causes this apparent change in positions? As Earth orbits the Sun, our perspective change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Do all stars appear in different positions at different times of the year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stellation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changing at the same (annual) timescale that we are observing the changing zodiac?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o the constellations appear to change positions in the night sky as Earth travels around our Sun throughout the year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re the constellations themselves moving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causes this apparent change in positions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o all stars appear in different positions at different times of the year? All except Polari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y is Polaris the only star that appears “fixed”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ell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changing at the same (annual) timescale that we are observing the changing zodiac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the constellations appear to change positions in the night sky as Earth travels around our Sun throughout the year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the constellations themselves moving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auses this apparent change in position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all stars appear in different positions at different times of the year? All except Polar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is Polaris the only star that appears “fixed”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Constellation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What is changing at the same (annual) timescale that we are observing the changing zodiac?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Do the constellations appear to change positions in the night sky as Earth travels around our Sun throughout the year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Are the constellations themselves moving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What causes this apparent change in positions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Do all stars appear in different positions at different times of the year? All except Polari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Why is Polaris the only star that appears “fixed”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stellation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changing at the same (annual) timescale that we are observing the changing zodiac?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o the constellations appear to change positions in the night sky as Earth travels around our Sun throughout the year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re the constellations themselves moving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causes this apparent change in positions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o all stars appear in different positions at different times of the year?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y is Polaris the only star that appears “fixed”? Earth’s axis points to Polari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ell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changing at the same (annual) timescale that we are observing the changing zodiac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the constellations appear to change positions in the night sky as Earth travels around our Sun throughout the year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the constellations themselves moving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auses this apparent change in position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all stars appear in different positions at different times of the yea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is Polaris the only star that appears “fixed”? Earth’s axis points to Polar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Constellation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What is changing at the same (annual) timescale that we are observing the changing zodiac?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Do the constellations appear to change positions in the night sky as Earth travels around our Sun throughout the year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Are the constellations themselves moving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What causes this apparent change in positions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Do all stars appear in different positions at different times of the year?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Why is Polaris the only star that appears “fixed”? Earth’s axis points to Polari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orn under the sign of…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Born under the sign of…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rn under the sign of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reek: Scorpio (Oct 23 and 21 Nov 21)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giant scorpion sent forth by Gaia to slay ORION when he threatened to slay all the beasts of the earth.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stellation is “paired” with Orion, which leaves the sky when Scorpio appears.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ek: Scorpio (Oct 23 and 21 Nov 21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giant scorpion sent forth by Gaia to slay ORION when he threatened to slay all the beasts of the ear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ellation is “paired” with Orion, which leaves the sky when Scorpio appea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rion the Hunter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rion the Hun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akota: The Hand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akota: The H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ign your own constel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sign your own constellation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stellation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changing at the same (annual) timescale that we are observing the changing zodiac?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ell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changing at the same (annual) timescale that we are observing the changing zodiac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Constellation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What is changing at the same (annual) timescale that we are observing the changing zodiac?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stellation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changing at the same (annual) timescale that we are observing the changing zodiac? Earth’s revolving.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o the constellations appear to change positions in the night sky as Earth travels around our Sun throughout the year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ell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changing at the same (annual) timescale that we are observing the changing zodiac? Earth’s revolv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the constellations appear to change positions in the night sky as Earth travels around our Sun throughout the year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Constellation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What is changing at the same (annual) timescale that we are observing the changing zodiac? Earth’s revolving.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Do the constellations appear to change positions in the night sky as Earth travels around our Sun throughout the year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E84BE3-733B-4FB4-A44F-A2E76A65F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4C6BC5-3256-47B1-A5EC-636758A15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4D1982-3DDF-48C7-BC97-3CCB2B675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AC51BC-8B7B-4567-8D43-CA701E433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5905F-576E-489C-BDD0-0684436A2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6B11A-C514-4C17-924D-B1952743E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0FAB5-5983-479C-9F2B-86181AB2B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58073-C81E-4637-8428-6F4ACA2DB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DFC08-57D4-4C4A-9F79-93160786D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3E5A3-AE95-468E-B457-AAF4C320E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DB1BE-4D4E-44F6-B824-E3D7614FF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58F71B-AC05-41D2-822F-AB69B2286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C4583-6353-41E3-8F04-0E6107BC2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8E846-86A2-48CD-BD90-17149FDF4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2B5E7-BDFC-4BFA-B464-7526D86B0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AD34E-D7C6-4A39-ADCE-5B43694CF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1DFCE-FE60-4838-B731-27726EED8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C7433B-0DEE-41B6-A7B4-9700F29BA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65DF5E-0C0E-4F7D-BB59-3D20692FB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6E6BCC-D45A-4719-ABD3-88B5DFFC2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C865A4-5FF5-42F8-A3BF-20BCE28BC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FCF64E-F821-4CAE-A958-754C77E5E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5943D6-4F1E-4A3A-8116-6F3D3C59F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415EAD-4AD6-4CDB-85B7-97D58CDC9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525F5-D536-4C92-A771-3FDB111053D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0808D-765E-4725-9023-6D77C4DF92D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://en.wikipedia.org/wiki/File:Orionurania.jpg" TargetMode="External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STARS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Constellations of our Galax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Нижний колонтитул 3"/>
          <p:cNvSpPr/>
          <p:nvPr/>
        </p:nvSpPr>
        <p:spPr>
          <a:xfrm>
            <a:off x="3124080" y="625140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nstellatio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14479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hat is changing at the same (annual) timescale that we are observing the changing zodiac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o the constellations appear to change positions in the night sky as Earth travels around our Sun throughout the year? </a:t>
            </a:r>
            <a:r>
              <a:rPr b="0" lang="en-US" sz="2800" spc="-1" strike="noStrike">
                <a:solidFill>
                  <a:srgbClr val="ffff00"/>
                </a:solidFill>
                <a:latin typeface="Garamond"/>
              </a:rPr>
              <a:t>Y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re the constellations themselves moving?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0" name="Нижний колонтитул 3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nstellatio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80880" y="14479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hat is changing at the same (annual) timescale that we are observing the changing zodiac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o the constellations appear to change positions in the night sky as Earth travels around our Sun throughout the year?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re the constellations themselves moving? </a:t>
            </a:r>
            <a:r>
              <a:rPr b="0" lang="en-US" sz="2800" spc="-1" strike="noStrike">
                <a:solidFill>
                  <a:srgbClr val="ffff00"/>
                </a:solidFill>
                <a:latin typeface="Garamond"/>
              </a:rPr>
              <a:t>NO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hat causes this apparent change in positions?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3" name="Нижний колонтитул 3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nstellatio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80880" y="14479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hat is changing at the same (annual) timescale that we are observing the changing zodiac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o the constellations appear to change positions in the night sky as Earth travels around our Sun throughout the year?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re the constellations themselves moving?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hat causes this apparent change in positions? </a:t>
            </a:r>
            <a:r>
              <a:rPr b="0" lang="en-US" sz="2800" spc="-1" strike="noStrike">
                <a:solidFill>
                  <a:srgbClr val="ffff00"/>
                </a:solidFill>
                <a:latin typeface="Garamond"/>
              </a:rPr>
              <a:t>As Earth orbits the Sun, our perspective chang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o all stars appear in different positions at different times of the year?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6" name="Нижний колонтитул 3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nstellatio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80880" y="14479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hat is changing at the same (annual) timescale that we are observing the changing zodiac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o the constellations appear to change positions in the night sky as Earth travels around our Sun throughout the year?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re the constellations themselves moving?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hat causes this apparent change in positions?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o all stars appear in different positions at different times of the year? </a:t>
            </a:r>
            <a:r>
              <a:rPr b="0" lang="en-US" sz="2800" spc="-1" strike="noStrike">
                <a:solidFill>
                  <a:srgbClr val="ffff00"/>
                </a:solidFill>
                <a:latin typeface="Garamond"/>
              </a:rPr>
              <a:t>All except Polari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hy is Polaris the only star that appears “fixed”?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Нижний колонтитул 3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nstellatio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80880" y="1447920"/>
            <a:ext cx="83059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hat is changing at the same (annual) timescale that we are observing the changing zodiac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o the constellations appear to change positions in the night sky as Earth travels around our Sun throughout the year?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re the constellations themselves moving?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hat causes this apparent change in positions?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o all stars appear in different positions at different times of the year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hy is Polaris the only star that appears “fixed”? </a:t>
            </a:r>
            <a:r>
              <a:rPr b="0" lang="en-US" sz="2800" spc="-1" strike="noStrike">
                <a:solidFill>
                  <a:srgbClr val="ffff00"/>
                </a:solidFill>
                <a:latin typeface="Garamond"/>
              </a:rPr>
              <a:t>Earth’s axis points to Polari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2" name="Нижний колонтитул 3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3" descr=""/>
          <p:cNvPicPr/>
          <p:nvPr/>
        </p:nvPicPr>
        <p:blipFill>
          <a:blip r:embed="rId1"/>
          <a:stretch/>
        </p:blipFill>
        <p:spPr>
          <a:xfrm>
            <a:off x="0" y="685800"/>
            <a:ext cx="9144000" cy="61722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7238880"/>
          </a:xfrm>
          <a:prstGeom prst="rect">
            <a:avLst/>
          </a:prstGeom>
          <a:ln w="0">
            <a:noFill/>
          </a:ln>
        </p:spPr>
      </p:pic>
      <p:sp>
        <p:nvSpPr>
          <p:cNvPr id="112" name="Нижний колонтитул 3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orn under the sign of…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4" name="Picture 5" descr="Earth, Sun, and constellation Leo in alignment."/>
          <p:cNvPicPr/>
          <p:nvPr/>
        </p:nvPicPr>
        <p:blipFill>
          <a:blip r:embed="rId1"/>
          <a:stretch/>
        </p:blipFill>
        <p:spPr>
          <a:xfrm>
            <a:off x="0" y="2230560"/>
            <a:ext cx="9144000" cy="2341440"/>
          </a:xfrm>
          <a:prstGeom prst="rect">
            <a:avLst/>
          </a:prstGeom>
          <a:ln w="0">
            <a:noFill/>
          </a:ln>
        </p:spPr>
      </p:pic>
      <p:sp>
        <p:nvSpPr>
          <p:cNvPr id="115" name="Нижний колонтитул 3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Greek: Scorpio (</a:t>
            </a:r>
            <a:r>
              <a:rPr b="0" lang="en-US" sz="4400" spc="-1" strike="noStrike">
                <a:solidFill>
                  <a:srgbClr val="e5e5ff"/>
                </a:solidFill>
                <a:latin typeface="Garamond"/>
              </a:rPr>
              <a:t>Oct 23 and 21 Nov 21)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876560" y="160020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 giant scorpion sent forth by Gaia to slay ORION when he threatened to slay all the beasts of the earth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onstellation is “paired” with Orion, which leaves the sky when Scorpio appear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8" name="Picture 5" descr="This is the &lt;a href=&quot;/the_universe/Constellations/summer/scorpio.html&quot;&gt;Greek constellation Scorpius&lt;/a&gt;, the scorpion. It contains a bright star, &lt;a href=&quot;/the_universe/antares.html&quot;&gt;Antares&lt;/a&gt;, that is part of the scorpion's tail.  To the ancient Greeks, Scorpius was related to the death of the hunter &lt;a href=&quot;/mythology/orion.html&quot;&gt;Orion&lt;/a&gt;.&lt;p&gt;&lt;small&gt;&lt;em&gt;&lt;/em&gt;&lt;/small&gt;&lt;/p&gt;"/>
          <p:cNvPicPr/>
          <p:nvPr/>
        </p:nvPicPr>
        <p:blipFill>
          <a:blip r:embed="rId1"/>
          <a:stretch/>
        </p:blipFill>
        <p:spPr>
          <a:xfrm>
            <a:off x="762120" y="2362320"/>
            <a:ext cx="3809880" cy="2857320"/>
          </a:xfrm>
          <a:prstGeom prst="rect">
            <a:avLst/>
          </a:prstGeom>
          <a:ln w="0">
            <a:noFill/>
          </a:ln>
        </p:spPr>
      </p:pic>
      <p:sp>
        <p:nvSpPr>
          <p:cNvPr id="119" name="Нижний колонтитул 4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Orion the Hunter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114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2" name="Picture 5" descr="210px-Orionurania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04920" y="1295280"/>
            <a:ext cx="3824280" cy="54817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7" descr="File:Orion-guide dark.svg"/>
          <p:cNvPicPr/>
          <p:nvPr/>
        </p:nvPicPr>
        <p:blipFill>
          <a:blip r:embed="rId4"/>
          <a:stretch/>
        </p:blipFill>
        <p:spPr>
          <a:xfrm>
            <a:off x="4572000" y="1447920"/>
            <a:ext cx="4572000" cy="5257800"/>
          </a:xfrm>
          <a:prstGeom prst="rect">
            <a:avLst/>
          </a:prstGeom>
          <a:ln w="0">
            <a:noFill/>
          </a:ln>
        </p:spPr>
      </p:pic>
      <p:sp>
        <p:nvSpPr>
          <p:cNvPr id="124" name="Нижний колонтитул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Lakota: The Hand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191120" y="1447920"/>
            <a:ext cx="49528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7" name="Picture 5" descr="orion_hand_big"/>
          <p:cNvPicPr/>
          <p:nvPr/>
        </p:nvPicPr>
        <p:blipFill>
          <a:blip r:embed="rId1"/>
          <a:stretch/>
        </p:blipFill>
        <p:spPr>
          <a:xfrm>
            <a:off x="380880" y="1600200"/>
            <a:ext cx="3524400" cy="4952880"/>
          </a:xfrm>
          <a:prstGeom prst="rect">
            <a:avLst/>
          </a:prstGeom>
          <a:ln w="0">
            <a:noFill/>
          </a:ln>
        </p:spPr>
      </p:pic>
      <p:sp>
        <p:nvSpPr>
          <p:cNvPr id="128" name="Нижний колонтитул 4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Design your own constella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" name="Нижний колонтитул 3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nstellatio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80880" y="14479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hat is changing at the same (annual) timescale that we are observing the changing zodiac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4" name="Нижний колонтитул 3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nstellatio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80880" y="14479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hat is changing at the same (annual) timescale that we are observing the changing zodiac? </a:t>
            </a:r>
            <a:r>
              <a:rPr b="0" lang="en-US" sz="2800" spc="-1" strike="noStrike">
                <a:solidFill>
                  <a:srgbClr val="ffff00"/>
                </a:solidFill>
                <a:latin typeface="Garamond"/>
              </a:rPr>
              <a:t>Earth’s revolving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o the constellations appear to change positions in the night sky as Earth travels around our Sun throughout the year?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Нижний колонтитул 3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0T17:03:08Z</dcterms:created>
  <dc:creator>QuarkNet</dc:creator>
  <dc:description/>
  <dc:language>en-US</dc:language>
  <cp:lastModifiedBy>LEGION</cp:lastModifiedBy>
  <dcterms:modified xsi:type="dcterms:W3CDTF">2018-03-22T10:12:07Z</dcterms:modified>
  <cp:revision>8</cp:revision>
  <dc:subject/>
  <dc:title>STARS</dc:title>
</cp:coreProperties>
</file>